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C4C426-3A7B-4623-9F6F-BC91745C3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sson is about 9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09B5CC-D895-457B-B3FF-8F20EE69CE30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: What is it? A tweet  Who wrote it? Hazel Healy  Did she write the article?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B7DCA1-655A-4BCE-AD73-BC0297E8C5C4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rify/elicit the nature of a tweet – 140 characters maximum. Students can write on slips to pass around, or onto the board(s) or flipchart paper and share and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1D7BE7-A306-4655-AE01-700FB185DBC2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 1) drowned  2) capsize  3)  dissuaded   4)  attempting  5) high (winds)  6) rough (seas)  7)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4BC403-42B9-456B-927C-F0D6527A7728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cut up words/phrases and definitions and get learners, in groups, to discuss and match. Or do this to the screen, or handou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 1/f   2/b   3/i   4/d   5/e   6/h  7/g  8/a   9/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440F80-2E48-4F79-B3AB-70061149C20F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Refugee crisis in Lesbos gets worse as winter 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1DAE65-8A05-48CE-A492-A27F79A6E428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ugees in Lesbos wanting to escape to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8A4F3F-5192-4117-A15A-5630F933543B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predict answers in pairs and then read to check KEY: 1) Yes  2) Yes  3) Yes  4) Yes  5) No  6)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5C4039-D359-4CBD-AEEC-EDF0523E3265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1) Yes  2) Yes  3)  No  4) Yes   5) 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1817FB-56EF-429E-9022-181A70D7ABF6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B574-E3A4-4523-9B8B-F6292325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E0F-8016-497B-AFC7-EF125747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C08-221F-469E-9288-143A6788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097-09AE-4549-BAA4-D516010C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6C87-6976-45D1-B631-B5977B5F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AF93-7EF0-4C5A-A71D-5CA47E5F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0FB0-34CC-486B-8DC1-9E95FF62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6595-B128-4F49-8ADE-1A2BC3AC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DFE2-70C1-4BD1-AA33-95CC86F0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5339-6E84-4EC5-8260-4E48620C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13A1-1385-40DD-A33E-A302BB73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2BD-B996-4E88-A0FA-DD24AF52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6F8F-DED2-42D7-9E11-918EA5EF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AA66-A64D-437F-9139-1DD54DA7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1113-C93D-4DB3-9EB8-FA8E6B69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8187-D0B6-4A35-9A11-D3F68D77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AEE0-7BA1-4B35-9DF3-D5427FA8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A3782-4F50-4B1B-AFFF-409C3B97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145A7-DC68-4D81-B84B-B17296E0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E17E6-47C6-45EE-977F-2D2360C0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5DED0-6622-464B-ADAF-D5041EF9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9355-DE02-44FD-A24C-D0A76AAA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8DA-C865-41CD-B2A3-2A01B84C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F9A5-F424-490C-94B3-4E38E4D6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21ABB-9A0F-4B9D-95F7-1388C833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9CE9-23E3-44A7-B34C-BD4427CA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CD77-A1DD-40B0-AA63-D7C8402A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330C-FE73-48A6-9717-8EB67AAC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2BB4B-E629-44E3-8CAC-7E12C12C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351B-085D-4669-88F8-5180008D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80C0C-D328-407C-9D97-2585A30C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FC87C-43ED-463A-B12E-2479111A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F56FE-57A9-4B22-B8A4-E05B756C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DEE-126A-45A0-B639-34743541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E5B71-A241-4EE0-AB06-C3757551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99FC5-EA5B-42DF-A174-21FDB71F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4E21-4506-4EB3-A0ED-DAE72E2F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7DF0D-67D1-4AF9-B0FA-58E88B24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E5C68-B35F-4B23-8A40-5FCF16CC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AB05C-817D-4B4F-A4E1-C5892CA8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78B0B-8B67-4044-A270-60B66063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C6CD1-DE9F-411A-8953-1DB108AC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DBD90-BA97-4B14-AE48-65EA898C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F4B-B04F-480F-91D9-C10A72D7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D65-7DD4-4689-9244-19BEE900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3A9-11CE-419A-AD54-057E2C96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B7D-BC4A-4CB5-9A98-E174F3D5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C55-75C0-45AB-80EB-07FEA75F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085F09-5CD4-4F45-80FE-3C18BABAC0E0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2B91FF-6D4D-499C-9D22-C5008CC157B6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F93A65-12AA-4A13-88D4-A8DA15CAF828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AADAD8-7C6C-4706-AFDF-26AFC57DD24D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ewint.org/blog/2015/11/04/refugee-crisis-worsens-in-lesbos-as-winter-looms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27820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Ref                           </a:t>
            </a: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Refugees in</a:t>
            </a:r>
            <a:br>
              <a:rPr sz="6000"/>
            </a:b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                   Lesb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-Intermediat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Internationalis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sier English ready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3949200" y="148680"/>
            <a:ext cx="5175000" cy="129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395640" y="1333800"/>
            <a:ext cx="4334400" cy="288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we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azel He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@hazel_h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rst night on Lesbos. Arrived and  heard a ship sank, hundreds of refugees died in the se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755640" y="1484640"/>
            <a:ext cx="1616760" cy="16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e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GB" sz="4800" spc="-1" strike="noStrike">
                <a:solidFill>
                  <a:srgbClr val="1f497d"/>
                </a:solidFill>
                <a:latin typeface="Calibri"/>
              </a:rPr>
              <a:t>Write a tweet about the situation in Lesbos to the head of your government. A tweet can only be 140 characters at mos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940000" y="332640"/>
            <a:ext cx="1804680" cy="12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Read the original article and find words which me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died in the sea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when boats turn over in the sea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advised not to do something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trying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strong (winds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dangerous (seas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route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blog/2015/11/04/refugee-crisis-worsens-in-lesbos-as-winter-loom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6300360" y="3861000"/>
            <a:ext cx="1810800" cy="12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oday’s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Vocabular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Read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Writ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5652000" y="1484640"/>
            <a:ext cx="294120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640" y="116640"/>
            <a:ext cx="2592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302400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1/ refug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2/ resc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/ equi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4/ urg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5/ 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6/ impr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7/ leg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8/ sa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9/ rou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915640" y="116640"/>
            <a:ext cx="6228000" cy="674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a)  opposite of danger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b)  help someone from a danger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c)  way to go from one place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an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d)  very, ver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e)  look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AutoNum type="alphaLcParenR" startAt="6"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person who wants to go to another country because of da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g)   Ok with the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h)   get 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i)    machin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ut the headline in the right 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worse 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winter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a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Refugee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Lesbo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crisi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in 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get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comes.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55200" y="1630800"/>
            <a:ext cx="25948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o are they? Where are they? Why are they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22200" y="1700640"/>
            <a:ext cx="6818760" cy="45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7640" y="1388880"/>
            <a:ext cx="822924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1 A woman wrote the article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2 There are  refugees  in Lesbos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3 Lesbos is in Greece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4 Lesbos is an island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5 Lesbos is 100 km from Turkey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6 60 refugees died in 5 days. Possibl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w read and check your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271440" y="131400"/>
            <a:ext cx="180468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364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In the 5 days Hazel was on Lesbos, she heard  more than 60 people died in the Aegean Sea trying to get to Europe. About half of these were children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Refugees have not stopped crossing the dangerous 10km of water from Turkey because of bad winter weather. More of them are crossing now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There are strong winds and rough seas. The rescue boats do not have enough money or equipment. So many refugee boats often do not get across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ad again and find the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1268640"/>
            <a:ext cx="822924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1 About 30 children died in the sea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2 The weather is a big problem for the boats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3 The boats are in good condition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4 Most of the refugees on their way to Euro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died in October this year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5 Countries must make it easier for refug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to go to Europe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588360" y="5373360"/>
            <a:ext cx="180468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e 5 days Hazel was on Lesbos, more than 60 people died in the Aegean Sea trying to get to Europe. About half of these were child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fugees have not stopped crossing the dangerous 10km of water from Turkey because of bad winter weather. More of them are crossing n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re are strong winds and rough seas. The rescue boats do not have enough money or equipment. So many refugee boats often do not get acro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ndreds of people have died trying to get to Europe this year, half of them in October. The United Nations High Commissioner for Refugees said it is urgent for search-and-rescue to improve. He says countries must make more legal, safe routes for refugees to get to Eur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  <Words>794</Words>
  <Paragraphs>1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1T14:21:53Z</dcterms:created>
  <dc:creator>windows 7 image</dc:creator>
  <dc:description/>
  <dc:language>en-US</dc:language>
  <cp:lastModifiedBy>Linda Ruas</cp:lastModifiedBy>
  <dcterms:modified xsi:type="dcterms:W3CDTF">2015-12-02T19:38:4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